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3"/>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0DEC96D-0947-454F-B191-5F7415F5EAB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5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5630FD7-593E-477E-82C6-9CB67DAC19B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5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597777B-343E-4DE1-A36E-BF7E7B81C2F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6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6410BAF-568D-45AF-9667-8D18C02BAFE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0622E7-60B2-4F45-AED7-7DEBE7CE0FD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6653738-38BA-4530-91AC-8694DA329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FF6F697-1145-47F7-BE86-0B2393E38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9E1610E-E929-4A94-B8BC-7C9678BD762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B936A1D-17D9-4119-BFF6-A6F71C9CE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E9ACDD1-10DF-401C-A949-691E90C0B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0F942BE-5B80-472B-9C9D-E70FE5F7A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32CA91BC-61AE-49D5-9548-19AA0A265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A054F38-4354-4564-A102-370A68A42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137526D-FF03-4591-8AC8-64E7FFE1A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DF0BF1A-A341-43E9-B275-D6AD99CBA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BA5FDB3-AA09-4EED-9F6A-1B7AFBAC27F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pt-B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pt-B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pt-B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98C604C-ED13-49DB-AFE9-7DF57B70F6F9}" type="slidenum">
              <a:rPr b="0" lang="pt-B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428760" y="5786280"/>
            <a:ext cx="3786120" cy="857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2400" spc="-1" strike="noStrike">
                <a:solidFill>
                  <a:srgbClr val="002060"/>
                </a:solidFill>
                <a:latin typeface="Tahoma"/>
                <a:ea typeface="Tahoma"/>
              </a:rPr>
              <a:t>Name of presentation</a:t>
            </a:r>
            <a:endParaRPr b="0" lang="en-US" sz="2400" spc="-1" strike="noStrike">
              <a:solidFill>
                <a:srgbClr val="000000"/>
              </a:solidFill>
              <a:latin typeface="Arial"/>
            </a:endParaRPr>
          </a:p>
          <a:p>
            <a:pPr>
              <a:lnSpc>
                <a:spcPct val="80000"/>
              </a:lnSpc>
              <a:spcBef>
                <a:spcPts val="4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1800" spc="-1" strike="noStrike">
                <a:solidFill>
                  <a:srgbClr val="002060"/>
                </a:solidFill>
                <a:latin typeface="Tahoma"/>
                <a:ea typeface="Tahoma"/>
              </a:rPr>
              <a:t>Company name</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143000" y="2714760"/>
            <a:ext cx="6769080" cy="392904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2060"/>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2060"/>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51" name=""/>
          <p:cNvSpPr/>
          <p:nvPr/>
        </p:nvSpPr>
        <p:spPr>
          <a:xfrm>
            <a:off x="1500120" y="2071800"/>
            <a:ext cx="6215040" cy="7858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3200" spc="-1" strike="noStrike">
                <a:solidFill>
                  <a:srgbClr val="4b1f6f"/>
                </a:solidFill>
                <a:latin typeface="Tahoma"/>
                <a:ea typeface="Tahoma"/>
              </a:rPr>
              <a:t>Second Pag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2000160" y="1857240"/>
            <a:ext cx="6769080" cy="392904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00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0099"/>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00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0099"/>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53" name=""/>
          <p:cNvSpPr/>
          <p:nvPr/>
        </p:nvSpPr>
        <p:spPr>
          <a:xfrm>
            <a:off x="2357280" y="571680"/>
            <a:ext cx="6215400" cy="785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3200" spc="-1" strike="noStrike">
                <a:solidFill>
                  <a:srgbClr val="4b1f6f"/>
                </a:solidFill>
                <a:latin typeface="Tahoma"/>
                <a:ea typeface="Tahoma"/>
              </a:rPr>
              <a:t>Printing</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2:20:55Z</dcterms:created>
  <dc:creator>EF</dc:creator>
  <dc:description/>
  <dc:language>en-US</dc:language>
  <cp:lastModifiedBy>EF</cp:lastModifiedBy>
  <dcterms:modified xsi:type="dcterms:W3CDTF">2008-11-03T02:55:09Z</dcterms:modified>
  <cp:revision>5</cp:revision>
  <dc:subject/>
  <dc:title>Slide 1</dc:title>
</cp:coreProperties>
</file>