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3"/>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C819379-4DDE-4B97-B32D-6AABA2C7944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4E47B2-1643-41A6-9F78-D5E67543D5C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9A0D87-194D-413B-BA13-7AADC81C32B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6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1E67BCB-FB7D-40DA-B0A6-F0170E566DB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F9DFB7-67E7-4808-B371-9EF793044CC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636244B-29BC-488D-A21B-B5DB87C0E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72FD9BE-91F5-4916-880C-7697AD4C7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1FB737A-768A-4385-B806-67017A25CEB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70EAC52-EDDB-4BD0-8532-0250CB348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B54234C-3B7C-4848-8281-A0780725D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B0695E5-1343-4B5C-9E2F-5812FAC13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2D73D05D-60BA-4520-969E-00652C53F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1935661-86F2-48D2-9C5A-96D0EA0F8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A5E29C0-8295-4EF1-A205-C6EEC114B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7A87998-1436-4A0C-ACCD-BA320AC6B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5F72EC4-334C-477F-AFF2-32A966BA6A3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pt-B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9DE9483-3649-46CB-BD3F-726B4F8278BB}" type="slidenum">
              <a:rPr b="0" lang="pt-B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28760" y="5786280"/>
            <a:ext cx="3786120" cy="857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2400" spc="-1" strike="noStrike">
                <a:solidFill>
                  <a:srgbClr val="002060"/>
                </a:solidFill>
                <a:latin typeface="Tahoma"/>
                <a:ea typeface="Tahoma"/>
              </a:rPr>
              <a:t>Name of presentation</a:t>
            </a:r>
            <a:endParaRPr b="0" lang="en-US" sz="2400" spc="-1" strike="noStrike">
              <a:solidFill>
                <a:srgbClr val="000000"/>
              </a:solidFill>
              <a:latin typeface="Arial"/>
            </a:endParaRPr>
          </a:p>
          <a:p>
            <a:pPr>
              <a:lnSpc>
                <a:spcPct val="80000"/>
              </a:lnSpc>
              <a:spcBef>
                <a:spcPts val="4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1800" spc="-1" strike="noStrike">
                <a:solidFill>
                  <a:srgbClr val="002060"/>
                </a:solidFill>
                <a:latin typeface="Tahoma"/>
                <a:ea typeface="Tahoma"/>
              </a:rPr>
              <a:t>Company nam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143000" y="271476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1" name=""/>
          <p:cNvSpPr/>
          <p:nvPr/>
        </p:nvSpPr>
        <p:spPr>
          <a:xfrm>
            <a:off x="1500120" y="2071800"/>
            <a:ext cx="6215040" cy="7858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Second Pag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000160" y="185724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3" name=""/>
          <p:cNvSpPr/>
          <p:nvPr/>
        </p:nvSpPr>
        <p:spPr>
          <a:xfrm>
            <a:off x="2357280" y="571680"/>
            <a:ext cx="6215400" cy="785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Printing</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2:20:55Z</dcterms:created>
  <dc:creator>EF</dc:creator>
  <dc:description/>
  <dc:language>en-US</dc:language>
  <cp:lastModifiedBy>EF</cp:lastModifiedBy>
  <dcterms:modified xsi:type="dcterms:W3CDTF">2008-11-03T02:55:09Z</dcterms:modified>
  <cp:revision>5</cp:revision>
  <dc:subject/>
  <dc:title>Slide 1</dc:title>
</cp:coreProperties>
</file>