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BBFB5D-7A68-445F-8C2A-0995AFE5284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475875-39A6-456D-BBA7-865F5C6CB2D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83ACCA-C610-469D-B5C5-C203626F705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33AB9CA-2C71-4A2E-B33B-50AC0D01668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EB7D39-8E94-424F-9FFB-9B803AFF0A9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A28A737-F473-4865-AB83-B87179BB2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48BBC92-606D-425B-9433-A0B528C81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231A6A3-EDE9-4D84-B4DE-139C2797B4D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6A6FBB4-CC13-43D0-84B5-E7F8658A8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6C385DC-F3A5-4920-8D42-E979BA4CD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C10FC73-1DCB-43E8-8535-33EB4515F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C87E2E0-1CDA-41A8-A80D-84372603E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96426C1-5F83-4FB0-8583-F06DC02BA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F30325E-266D-4117-880A-366ECBEA2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CBF71B8-49AC-4975-AE01-F03A89C4E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D29BBEC-E39B-493E-B5D4-5B0CDF8983F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2BD4F02-7A55-483A-9DD8-E3C074020D81}"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28760" y="5786280"/>
            <a:ext cx="3786120" cy="857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2400" spc="-1" strike="noStrike">
                <a:solidFill>
                  <a:srgbClr val="002060"/>
                </a:solidFill>
                <a:latin typeface="Tahoma"/>
                <a:ea typeface="Tahoma"/>
              </a:rPr>
              <a:t>Name of presentation</a:t>
            </a:r>
            <a:endParaRPr b="0" lang="en-US" sz="2400" spc="-1" strike="noStrike">
              <a:solidFill>
                <a:srgbClr val="000000"/>
              </a:solidFill>
              <a:latin typeface="Arial"/>
            </a:endParaRPr>
          </a:p>
          <a:p>
            <a:pPr>
              <a:lnSpc>
                <a:spcPct val="8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1800" spc="-1" strike="noStrike">
                <a:solidFill>
                  <a:srgbClr val="002060"/>
                </a:solidFill>
                <a:latin typeface="Tahoma"/>
                <a:ea typeface="Tahoma"/>
              </a:rPr>
              <a:t>Company nam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143000" y="271476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1" name=""/>
          <p:cNvSpPr/>
          <p:nvPr/>
        </p:nvSpPr>
        <p:spPr>
          <a:xfrm>
            <a:off x="1500120" y="2071800"/>
            <a:ext cx="6215040" cy="785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Second Pag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000160" y="185724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3" name=""/>
          <p:cNvSpPr/>
          <p:nvPr/>
        </p:nvSpPr>
        <p:spPr>
          <a:xfrm>
            <a:off x="2357280" y="571680"/>
            <a:ext cx="62154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Print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20:55Z</dcterms:created>
  <dc:creator>EF</dc:creator>
  <dc:description/>
  <dc:language>en-US</dc:language>
  <cp:lastModifiedBy>EF</cp:lastModifiedBy>
  <dcterms:modified xsi:type="dcterms:W3CDTF">2008-11-03T02:55:09Z</dcterms:modified>
  <cp:revision>5</cp:revision>
  <dc:subject/>
  <dc:title>Slide 1</dc:title>
</cp:coreProperties>
</file>