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D520DA-BDEC-4C6C-9A0B-C734FA9E48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8D4DB9-AF5C-4368-8719-83DFCE9868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AD6BE0-B5A5-4F8E-AE94-3C4179BAAB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9D2991-769F-4397-A38D-AE0087B3211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96CF3C-DF98-48F7-A3EF-F7678ECA42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B97C94-3657-4DD5-A3BD-4376AFE4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A63C2E8-41FF-4A2E-8BD9-AEA95BF8D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63C125C-64D1-422C-8A87-0ADC4EDB03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3A42FBF-BA95-4616-9C4F-7902605B5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0F58788-F1FF-41E5-A4BC-7457EB39F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D3F9274-F6F4-4F3F-A9B3-C3E35062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8B3AFBF-DB67-4736-A859-35E9D888F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3DA595E-80AD-4380-809C-01DECCFD9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656AF6-D3E1-4AED-972A-2A512D6D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9BDCA0D-0724-40CC-AF4F-D4633A60F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47ACDB-F112-4183-A7C1-9C7E423F8A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500604-CF69-48CC-8462-CFC4BABC8037}"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28760" y="5786280"/>
            <a:ext cx="3786120" cy="857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2400" spc="-1" strike="noStrike">
                <a:solidFill>
                  <a:srgbClr val="002060"/>
                </a:solidFill>
                <a:latin typeface="Tahoma"/>
                <a:ea typeface="Tahoma"/>
              </a:rPr>
              <a:t>Name of presentation</a:t>
            </a:r>
            <a:endParaRPr b="0" lang="en-US" sz="2400" spc="-1" strike="noStrike">
              <a:solidFill>
                <a:srgbClr val="000000"/>
              </a:solidFill>
              <a:latin typeface="Arial"/>
            </a:endParaRPr>
          </a:p>
          <a:p>
            <a:pPr>
              <a:lnSpc>
                <a:spcPct val="8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1800" spc="-1" strike="noStrike">
                <a:solidFill>
                  <a:srgbClr val="002060"/>
                </a:solidFill>
                <a:latin typeface="Tahoma"/>
                <a:ea typeface="Tahoma"/>
              </a:rPr>
              <a:t>Company nam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143000" y="271476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206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1" name=""/>
          <p:cNvSpPr/>
          <p:nvPr/>
        </p:nvSpPr>
        <p:spPr>
          <a:xfrm>
            <a:off x="1500120" y="2071800"/>
            <a:ext cx="6215040" cy="785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Second Pag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000160" y="1857240"/>
            <a:ext cx="6769080" cy="392904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341280">
              <a:lnSpc>
                <a:spcPct val="80000"/>
              </a:lnSpc>
              <a:spcBef>
                <a:spcPts val="499"/>
              </a:spcBef>
              <a:buClr>
                <a:srgbClr val="0000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ru-RU" sz="2000" spc="-1" strike="noStrike">
                <a:solidFill>
                  <a:srgbClr val="000099"/>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53" name=""/>
          <p:cNvSpPr/>
          <p:nvPr/>
        </p:nvSpPr>
        <p:spPr>
          <a:xfrm>
            <a:off x="2357280" y="571680"/>
            <a:ext cx="6215400" cy="785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pt-BR" sz="3200" spc="-1" strike="noStrike">
                <a:solidFill>
                  <a:srgbClr val="4b1f6f"/>
                </a:solidFill>
                <a:latin typeface="Tahoma"/>
                <a:ea typeface="Tahoma"/>
              </a:rPr>
              <a:t>Print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20:55Z</dcterms:created>
  <dc:creator>EF</dc:creator>
  <dc:description/>
  <dc:language>en-US</dc:language>
  <cp:lastModifiedBy>EF</cp:lastModifiedBy>
  <dcterms:modified xsi:type="dcterms:W3CDTF">2008-11-03T02:55:09Z</dcterms:modified>
  <cp:revision>5</cp:revision>
  <dc:subject/>
  <dc:title>Slide 1</dc:title>
</cp:coreProperties>
</file>